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gif" ContentType="image/gif"/>
  <Override PartName="/ppt/media/image14.gif" ContentType="image/gif"/>
  <Override PartName="/ppt/media/image31.jpeg" ContentType="image/jpeg"/>
  <Override PartName="/ppt/media/image24.png" ContentType="image/png"/>
  <Override PartName="/ppt/media/image2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9.gif" ContentType="image/gif"/>
  <Override PartName="/ppt/media/image30.jpeg" ContentType="image/jpeg"/>
  <Override PartName="/ppt/media/image32.jpeg" ContentType="image/jpeg"/>
  <Override PartName="/ppt/media/image35.png" ContentType="image/png"/>
  <Override PartName="/ppt/media/image26.jpeg" ContentType="image/jpeg"/>
  <Override PartName="/ppt/media/image10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15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F1F4-B482-4950-A9C6-EE2B9CDC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F62-9148-4F26-A320-16E45E97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C20F-9829-4144-8F18-3099976C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E10F-C2F8-4932-83A0-850D5AD8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AD4-0A2E-4D56-B484-6717E4B4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9EAC-FFCC-45CC-8DC3-CF82002F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9E91-4BC1-4F57-8A09-3601EA9F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201-5800-4019-A254-986463E9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DD5-4C04-4C42-BA6C-71A0336B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2A59-85EE-45A5-A8F5-E5204A77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E01-CFD1-4CDE-BAD9-69ADF8D1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681-E6B6-4128-B35A-521F511D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CC55-25EB-4351-BE8F-351E283CA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1.png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24000" y="4005360"/>
            <a:ext cx="4681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Весенние изменен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ироде"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59280" y="1341360"/>
            <a:ext cx="338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резента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2565360"/>
            <a:ext cx="61722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 уроку окружающего мир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597720" y="2924280"/>
            <a:ext cx="2079720" cy="2881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3870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ннецветущие растения получают питание из своих утолщённых подземных частей, в кот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ых с прошлого года хранились запасы пит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льных веществ. Им требуется много света и влаги, чего в это время пре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пла им требуется нем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16000" y="476280"/>
            <a:ext cx="4680000" cy="3438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54450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теперь ты ответишь 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чему эти растения зацветают так 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68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4365360"/>
            <a:ext cx="88200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ногие собирают весной буке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есенних растений. Хорошо ли э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мы с вами можем сдел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бы сохранить раст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1035000" cy="1309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580000" y="765000"/>
            <a:ext cx="2687760" cy="3743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71640" y="1557360"/>
            <a:ext cx="1922400" cy="266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348000" y="189000"/>
            <a:ext cx="180504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148360" y="692280"/>
            <a:ext cx="3617640" cy="5473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33336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 лесу передвигайтесь по тропинкам (гибель травянис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растений губ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сказывается на состоя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всего лес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Букеты составля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из цветов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человек вырастил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у себя на садовом участ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Не собирайте берёзовый сок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е опасности могут подстерегать нас весн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2733480" cy="288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3279600" cy="218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516720" y="3789360"/>
            <a:ext cx="2208240" cy="26589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5" name="Picture 7" descr=""/>
          <p:cNvPicPr/>
          <p:nvPr/>
        </p:nvPicPr>
        <p:blipFill>
          <a:blip r:embed="rId5"/>
          <a:stretch/>
        </p:blipFill>
        <p:spPr>
          <a:xfrm>
            <a:off x="2916360" y="3933720"/>
            <a:ext cx="3314520" cy="24368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14480" y="1600200"/>
            <a:ext cx="292248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226120" y="1600200"/>
            <a:ext cx="288288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39640" y="404640"/>
            <a:ext cx="813600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ссовый прилёт птиц. Гнездовани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56000" y="1341360"/>
            <a:ext cx="3887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няют (меняют шубку на летню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сыпаются от зимнего сна: медведи, барсуки, ежи, бурунду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многих зверей появляются детёны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16000" y="476280"/>
            <a:ext cx="679284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 встречают весну звери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580000" y="3789360"/>
            <a:ext cx="2916360" cy="2187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348000" y="3789360"/>
            <a:ext cx="2592360" cy="2232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84360" y="3789360"/>
            <a:ext cx="2663640" cy="218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есенние изменения в прир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971960"/>
          </a:xfrm>
          <a:prstGeom prst="rect">
            <a:avLst/>
          </a:prstGeom>
          <a:ln w="0">
            <a:noFill/>
          </a:ln>
        </p:spPr>
      </p:pic>
      <p:sp>
        <p:nvSpPr>
          <p:cNvPr id="141" name="Скругленный прямоугольник 3"/>
          <p:cNvSpPr/>
          <p:nvPr/>
        </p:nvSpPr>
        <p:spPr>
          <a:xfrm>
            <a:off x="3000240" y="1428840"/>
            <a:ext cx="3214800" cy="857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Солнце выше над горизонтом, чем зи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6"/>
          <p:cNvSpPr/>
          <p:nvPr/>
        </p:nvSpPr>
        <p:spPr>
          <a:xfrm>
            <a:off x="3000240" y="2786040"/>
            <a:ext cx="3214800" cy="857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Дни стали длиннее; поте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7"/>
          <p:cNvSpPr/>
          <p:nvPr/>
        </p:nvSpPr>
        <p:spPr>
          <a:xfrm>
            <a:off x="571680" y="4071960"/>
            <a:ext cx="3714480" cy="2571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В неживой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Таяние снега, ль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На реках лед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Половод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Осадки: снег, дож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Оттаивает поч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8"/>
          <p:cNvSpPr/>
          <p:nvPr/>
        </p:nvSpPr>
        <p:spPr>
          <a:xfrm>
            <a:off x="5143680" y="4071960"/>
            <a:ext cx="3643200" cy="2571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В живой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Набухают п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Появляются лис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Цветение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Появление насеко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Возвращение перелетных пт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Изменения в жизни зве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Прямая со стрелкой 10"/>
          <p:cNvCxnSpPr/>
          <p:nvPr/>
        </p:nvCxnSpPr>
        <p:spPr>
          <a:xfrm flipH="1">
            <a:off x="4642560" y="2285640"/>
            <a:ext cx="2520" cy="50076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6" name="Прямая со стрелкой 11"/>
          <p:cNvCxnSpPr/>
          <p:nvPr/>
        </p:nvCxnSpPr>
        <p:spPr>
          <a:xfrm flipH="1">
            <a:off x="2499840" y="3642120"/>
            <a:ext cx="572400" cy="42948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7" name="Прямая со стрелкой 12"/>
          <p:cNvCxnSpPr/>
          <p:nvPr/>
        </p:nvCxnSpPr>
        <p:spPr>
          <a:xfrm>
            <a:off x="6143400" y="3642840"/>
            <a:ext cx="680040" cy="42948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48" name="Прямая со стрелкой 21"/>
          <p:cNvCxnSpPr/>
          <p:nvPr/>
        </p:nvCxnSpPr>
        <p:spPr>
          <a:xfrm>
            <a:off x="4286160" y="5428800"/>
            <a:ext cx="858240" cy="2520"/>
          </a:xfrm>
          <a:prstGeom prst="straightConnector1">
            <a:avLst/>
          </a:prstGeom>
          <a:ln w="4428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5000400" cy="3724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2771640" y="189000"/>
            <a:ext cx="3429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ние на дом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87280" y="4724280"/>
            <a:ext cx="60962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ставить кроссворд на тему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Приметы весны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1628640"/>
            <a:ext cx="691200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 добиться успеха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изучении окружающего мира, 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ужно научиться открывать секреты природы.</a:t>
            </a:r>
            <a:endParaRPr b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740040" cy="328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0" y="333360"/>
            <a:ext cx="4321080" cy="3019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572000" y="3645000"/>
            <a:ext cx="4248000" cy="2879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3" name=""/>
          <p:cNvSpPr txBox="1"/>
          <p:nvPr/>
        </p:nvSpPr>
        <p:spPr>
          <a:xfrm>
            <a:off x="6732720" y="3716280"/>
            <a:ext cx="1447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пре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948360" y="2565360"/>
            <a:ext cx="800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987640" y="4365720"/>
            <a:ext cx="981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47640" y="1989000"/>
            <a:ext cx="2514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сна света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292720" y="4941720"/>
            <a:ext cx="2495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есна вод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9280" y="549360"/>
            <a:ext cx="3429000" cy="17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сн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елёной трав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62320" y="260280"/>
            <a:ext cx="4730760" cy="6464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1120" y="5516640"/>
            <a:ext cx="3437640" cy="106884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Пер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      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прота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4400" y="692280"/>
            <a:ext cx="18799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ед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92360" y="1700280"/>
            <a:ext cx="6296040" cy="4722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3658680" y="476280"/>
            <a:ext cx="239652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ловод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788000" y="1341360"/>
            <a:ext cx="3833640" cy="511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39640" y="1341360"/>
            <a:ext cx="3835440" cy="511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24000" y="189000"/>
            <a:ext cx="180000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умай, как влияют изменения в неживой природе вес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живую при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4897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08720" y="1700280"/>
            <a:ext cx="2579760" cy="3575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08608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травянистые растения, которые зацветают весной перв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1726920" cy="1697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268360" y="386064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187280" y="3879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3419640" y="37893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42240" y="404640"/>
            <a:ext cx="7779600" cy="5832720"/>
            <a:chOff x="642240" y="404640"/>
            <a:chExt cx="7779600" cy="583272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284720" y="404640"/>
              <a:ext cx="4137120" cy="58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42240" y="5445000"/>
              <a:ext cx="3267000" cy="5814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Мать–и-мачех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55640" y="549360"/>
            <a:ext cx="7620120" cy="5867640"/>
            <a:chOff x="755640" y="549360"/>
            <a:chExt cx="7620120" cy="5867640"/>
          </a:xfrm>
        </p:grpSpPr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755640" y="549360"/>
              <a:ext cx="7620120" cy="50673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sp>
          <p:nvSpPr>
            <p:cNvPr id="84" name=""/>
            <p:cNvSpPr/>
            <p:nvPr/>
          </p:nvSpPr>
          <p:spPr>
            <a:xfrm>
              <a:off x="3279600" y="5835600"/>
              <a:ext cx="2948400" cy="581400"/>
            </a:xfrm>
            <a:prstGeom prst="rect">
              <a:avLst/>
            </a:prstGeom>
            <a:solidFill>
              <a:srgbClr val="71da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одснежник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187280" y="549360"/>
            <a:ext cx="6769440" cy="5909040"/>
            <a:chOff x="1187280" y="549360"/>
            <a:chExt cx="6769440" cy="5909040"/>
          </a:xfrm>
        </p:grpSpPr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1187280" y="549360"/>
              <a:ext cx="6769440" cy="507672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sp>
          <p:nvSpPr>
            <p:cNvPr id="87" name=""/>
            <p:cNvSpPr/>
            <p:nvPr/>
          </p:nvSpPr>
          <p:spPr>
            <a:xfrm>
              <a:off x="2495880" y="5877000"/>
              <a:ext cx="4457160" cy="581400"/>
            </a:xfrm>
            <a:prstGeom prst="rect">
              <a:avLst/>
            </a:prstGeom>
            <a:solidFill>
              <a:srgbClr val="66ff99"/>
            </a:soli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Ветреница лютич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172160" y="549360"/>
            <a:ext cx="7270200" cy="5832360"/>
            <a:chOff x="1172160" y="549360"/>
            <a:chExt cx="7270200" cy="5832360"/>
          </a:xfrm>
        </p:grpSpPr>
        <p:pic>
          <p:nvPicPr>
            <p:cNvPr id="89" name="" descr=""/>
            <p:cNvPicPr/>
            <p:nvPr/>
          </p:nvPicPr>
          <p:blipFill>
            <a:blip r:embed="rId5"/>
            <a:stretch/>
          </p:blipFill>
          <p:spPr>
            <a:xfrm>
              <a:off x="4067280" y="549360"/>
              <a:ext cx="4375080" cy="583236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sp>
          <p:nvSpPr>
            <p:cNvPr id="90" name=""/>
            <p:cNvSpPr/>
            <p:nvPr/>
          </p:nvSpPr>
          <p:spPr>
            <a:xfrm>
              <a:off x="1172160" y="5661000"/>
              <a:ext cx="2230560" cy="581400"/>
            </a:xfrm>
            <a:prstGeom prst="rect">
              <a:avLst/>
            </a:prstGeom>
            <a:solidFill>
              <a:srgbClr val="ff99ff"/>
            </a:solidFill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Медуниц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187280" y="549360"/>
            <a:ext cx="6801120" cy="5837400"/>
            <a:chOff x="1187280" y="549360"/>
            <a:chExt cx="6801120" cy="5837400"/>
          </a:xfrm>
        </p:grpSpPr>
        <p:pic>
          <p:nvPicPr>
            <p:cNvPr id="92" name="" descr=""/>
            <p:cNvPicPr/>
            <p:nvPr/>
          </p:nvPicPr>
          <p:blipFill>
            <a:blip r:embed="rId6"/>
            <a:stretch/>
          </p:blipFill>
          <p:spPr>
            <a:xfrm>
              <a:off x="1187280" y="549360"/>
              <a:ext cx="6801120" cy="5100480"/>
            </a:xfrm>
            <a:prstGeom prst="rect">
              <a:avLst/>
            </a:prstGeom>
            <a:ln w="38160">
              <a:solidFill>
                <a:srgbClr val="996633"/>
              </a:solidFill>
              <a:miter/>
            </a:ln>
          </p:spPr>
        </p:pic>
        <p:sp>
          <p:nvSpPr>
            <p:cNvPr id="93" name=""/>
            <p:cNvSpPr/>
            <p:nvPr/>
          </p:nvSpPr>
          <p:spPr>
            <a:xfrm>
              <a:off x="1891800" y="5805360"/>
              <a:ext cx="5635080" cy="581400"/>
            </a:xfrm>
            <a:prstGeom prst="rect">
              <a:avLst/>
            </a:prstGeom>
            <a:solidFill>
              <a:srgbClr val="cccc00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Печёночница благород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258920" y="620640"/>
            <a:ext cx="6667560" cy="5766120"/>
            <a:chOff x="1258920" y="620640"/>
            <a:chExt cx="6667560" cy="5766120"/>
          </a:xfrm>
        </p:grpSpPr>
        <p:sp>
          <p:nvSpPr>
            <p:cNvPr id="95" name=""/>
            <p:cNvSpPr/>
            <p:nvPr/>
          </p:nvSpPr>
          <p:spPr>
            <a:xfrm>
              <a:off x="3535560" y="5805360"/>
              <a:ext cx="1980720" cy="581400"/>
            </a:xfrm>
            <a:prstGeom prst="rect">
              <a:avLst/>
            </a:prstGeom>
            <a:solidFill>
              <a:srgbClr val="33cc33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Хохлат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7"/>
            <a:stretch/>
          </p:blipFill>
          <p:spPr>
            <a:xfrm>
              <a:off x="1258920" y="620640"/>
              <a:ext cx="6667560" cy="4991040"/>
            </a:xfrm>
            <a:prstGeom prst="rect">
              <a:avLst/>
            </a:prstGeom>
            <a:ln w="38160">
              <a:solidFill>
                <a:srgbClr val="996633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Comic Sans MS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9200" y="566100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очему эти растения зацветают так 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39640" y="476280"/>
            <a:ext cx="8240760" cy="5040360"/>
            <a:chOff x="539640" y="476280"/>
            <a:chExt cx="8240760" cy="504036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826920" y="620640"/>
              <a:ext cx="1581480" cy="2230560"/>
            </a:xfrm>
            <a:prstGeom prst="rect">
              <a:avLst/>
            </a:prstGeom>
            <a:ln w="38160">
              <a:solidFill>
                <a:srgbClr val="808080"/>
              </a:solidFill>
              <a:miter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539640" y="3213000"/>
              <a:ext cx="2514600" cy="1671840"/>
            </a:xfrm>
            <a:prstGeom prst="rect">
              <a:avLst/>
            </a:prstGeom>
            <a:ln w="38160">
              <a:solidFill>
                <a:srgbClr val="bbe0e3"/>
              </a:solidFill>
              <a:miter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3276720" y="1268280"/>
              <a:ext cx="2730240" cy="2048040"/>
            </a:xfrm>
            <a:prstGeom prst="rect">
              <a:avLst/>
            </a:prstGeom>
            <a:ln w="38160">
              <a:solidFill>
                <a:srgbClr val="339966"/>
              </a:solidFill>
              <a:miter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6588000" y="476280"/>
              <a:ext cx="1698840" cy="2265480"/>
            </a:xfrm>
            <a:prstGeom prst="rect">
              <a:avLst/>
            </a:prstGeom>
            <a:ln w="38160">
              <a:solidFill>
                <a:srgbClr val="006600"/>
              </a:solidFill>
              <a:miter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6300720" y="3068640"/>
              <a:ext cx="2479680" cy="1860480"/>
            </a:xfrm>
            <a:prstGeom prst="rect">
              <a:avLst/>
            </a:prstGeom>
            <a:ln w="38160">
              <a:solidFill>
                <a:srgbClr val="9966ff"/>
              </a:solidFill>
              <a:miter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3276720" y="3505320"/>
              <a:ext cx="2685960" cy="2011320"/>
            </a:xfrm>
            <a:prstGeom prst="rect">
              <a:avLst/>
            </a:prstGeom>
            <a:ln w="38160">
              <a:solidFill>
                <a:srgbClr val="cccc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4:10:05Z</dcterms:created>
  <dc:creator>Sergey</dc:creator>
  <dc:description/>
  <dc:language>en-US</dc:language>
  <cp:lastModifiedBy>Sergey</cp:lastModifiedBy>
  <dcterms:modified xsi:type="dcterms:W3CDTF">2013-03-17T15:31:06Z</dcterms:modified>
  <cp:revision>49</cp:revision>
  <dc:subject/>
  <dc:title>Слайд 1</dc:title>
</cp:coreProperties>
</file>